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64196-E345-4406-A686-4B10E63D18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06640" y="811080"/>
            <a:ext cx="5344920" cy="40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992-E269-4E5B-B8A9-29D74609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67A-AB95-49A0-898C-D3C88814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179-1056-408F-BD3A-20115F92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0C5-7BB1-40C3-AFA6-C6E82194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906-7CBA-4620-8180-A261396B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1DC-334C-4A02-8876-7CE7A5B7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05F-54C7-472B-B097-E7C12D9E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A5C-746A-4CC9-B80B-860F6ADA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CD9-0A78-43E3-A1D1-17944206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22F-CBDA-4BC2-99A6-560DAEBB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EC49-998E-486C-A119-9B0802C2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6FB-B538-4F9F-8CFF-CA7B6445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06C52E-0DF4-474E-A34A-2A55010D93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786400" y="2065320"/>
            <a:ext cx="45806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You Are Hol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68360" y="2052720"/>
            <a:ext cx="906768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are holy (You are h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are mighty (You are mi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are worthy (You are wort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orthy of praise (Worthy of prai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follow (I will foll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isten (I will list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 (I will love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l of my days (All of my da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0" y="182520"/>
            <a:ext cx="496404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will sing to and wo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King who is wor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will love and adore H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I will bow down before H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I will sing to and worship The King who is wor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I will love and adore h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I will bow down before H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5040360" y="168120"/>
            <a:ext cx="5040360" cy="61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Wo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are Lord of L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are King of K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are mighty G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rd of everyt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Emmanu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the great "I AM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my Prince of Pe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o is the Lam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the living G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my saving gr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will reign fo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are ancient of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the Alpha, Omeg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ginning and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my Savior, Messiah, Redeemer, and fri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92040" y="6573960"/>
            <a:ext cx="92966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(Al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You're my Prince of Peace and I will live my life for yo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68360" y="2052720"/>
            <a:ext cx="906768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are holy (You are h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are mighty (You are mi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 are worthy (You are wort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orthy of praise (Worthy of prai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follow (I will foll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isten (I will list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 (I will love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l of my days (All of my da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182520"/>
            <a:ext cx="496404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will sing to and wo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King who is wor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will love and adore H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I will bow down before H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I will sing to and worship The King who is wor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I will love and adore h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I will bow down before H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871880" y="168120"/>
            <a:ext cx="5376960" cy="61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Wo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are Lord of L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are King of K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are mighty G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rd of everyt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Emmanu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the great "I AM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my Prince of Pe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o is the Lam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the living G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my saving gr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will reign fo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 are ancient of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the Alpha, Omeg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ginning and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're my Savior, Messiah, Redeemer, and fri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92040" y="6573960"/>
            <a:ext cx="92966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(Al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You're my Prince of Peace and I will live my life for yo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</dc:creator>
  <dc:description/>
  <dc:language>en-US</dc:language>
  <cp:lastModifiedBy>Peter</cp:lastModifiedBy>
  <dcterms:modified xsi:type="dcterms:W3CDTF">2010-05-16T04:59:11Z</dcterms:modified>
  <cp:revision>37</cp:revision>
  <dc:subject/>
  <dc:title>Slide 1</dc:title>
</cp:coreProperties>
</file>